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3C0-C013-40C4-BEE3-CAF91C3B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946-9C03-459C-A04C-E3825590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EF8-BDAF-4583-AE8E-EE281E2D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AF4-9D48-49D8-8EDF-2288672A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D81-FA8A-4C9C-A491-1B7275E9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9C5-653A-41C6-AA80-5E97C967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054-D056-440F-86A9-3E6F2F3E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983-1E12-4612-B8A4-032C0734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4C6-45A6-48F6-8F93-335639A0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0F3-7BD2-4039-8FA5-D2A1425B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716-E750-4E6D-B10C-7EE88A30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E81-21F8-4338-8767-B3EFE7BC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BBA2-9D7C-4DA2-995D-DFA67752B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kellogg.html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609480"/>
            <a:ext cx="86104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rn Flake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270160" y="384984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002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5440" y="3697200"/>
            <a:ext cx="405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n D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er 7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71500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Play Music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t Hurt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er 8, 2011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-76320" y="7059600"/>
          <a:ext cx="398160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7059600"/>
                    <a:ext cx="39816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Kellogg"/>
          <p:cNvPicPr/>
          <p:nvPr/>
        </p:nvPicPr>
        <p:blipFill>
          <a:blip r:embed="rId1"/>
          <a:stretch/>
        </p:blipFill>
        <p:spPr>
          <a:xfrm>
            <a:off x="685800" y="838080"/>
            <a:ext cx="1816200" cy="3200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419112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rnFl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/1/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kellogg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-4722" t="-3152" r="-33057" b="-23627"/>
          <a:stretch/>
        </p:blipFill>
        <p:spPr>
          <a:xfrm>
            <a:off x="6172200" y="914400"/>
            <a:ext cx="220968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181480" y="35812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3657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rn Fl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 Flakes helped patients with healthy di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d their own company called ”Battle Creek Toasted Frosted Flak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s loved the flakes so much that they would ask them to ship the fl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gan making different kinds of  Kellogg cereal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Will Keith Kello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Keith Kellogg was born on April,7 1886 in Battle Creek Michi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rked along the side of his  brother John Kellogg in the sanita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became interested in medicine and he decided to learned from his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ecided to make the Corn Flakes for healthy diets for pat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40Z</dcterms:created>
  <dc:creator>install</dc:creator>
  <dc:description/>
  <dc:language>en-US</dc:language>
  <cp:lastModifiedBy>install</cp:lastModifiedBy>
  <dcterms:modified xsi:type="dcterms:W3CDTF">2011-12-19T14:51:12Z</dcterms:modified>
  <cp:revision>7</cp:revision>
  <dc:subject/>
  <dc:title>Slide 1</dc:title>
</cp:coreProperties>
</file>